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B95C4-8E35-4F69-8700-2617946052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DA7DD-8FD7-45EF-9479-F4122AE46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 Warmup Review vowel sounds wit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5405D-BAAA-4C25-ACC4-81B1E374B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804-A058-48F6-91F6-01068CC3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57C-1323-425F-846F-5F244721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34D-7B22-4AE7-80E7-E8827A1F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F71-2499-4CC9-BD5B-A09652EB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C60-C415-4084-8188-B0D3D3D0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D86-C9FD-4A9C-8DD2-59D15FB9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5DA-D728-43DC-9D16-6ACD7AF0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507-DC01-4F16-9AFB-F056FD11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6C4-35C8-46D9-A05C-F67DCE24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B75-7919-433F-9743-F8144E0D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200-E410-4446-8E87-0EAB3E39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325E-9665-446F-A02D-8C6C92E2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E632E-3254-4FE0-95C1-4373E79B09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44C07-28EE-45B4-AE20-E1D2F3F96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61722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  <a:ea typeface="新細明體"/>
              </a:rPr>
              <a:t>Vocal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新細明體"/>
              </a:rPr>
              <a:t>(Vowels)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新細明體"/>
              </a:rPr>
              <a:t>in Spanish are always pronounced the same.  They never change.  Learn the sounds and always pronounce them the same way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A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E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I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O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U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4843197-close-up-of-little-boy-opening-mouth-for-dental-checkup-in-stomatological-office"/>
          <p:cNvPicPr/>
          <p:nvPr/>
        </p:nvPicPr>
        <p:blipFill>
          <a:blip r:embed="rId1"/>
          <a:stretch/>
        </p:blipFill>
        <p:spPr>
          <a:xfrm>
            <a:off x="896760" y="457200"/>
            <a:ext cx="1600200" cy="1076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dadidl"/>
          <p:cNvPicPr/>
          <p:nvPr/>
        </p:nvPicPr>
        <p:blipFill>
          <a:blip r:embed="rId2"/>
          <a:stretch/>
        </p:blipFill>
        <p:spPr>
          <a:xfrm>
            <a:off x="896760" y="1981080"/>
            <a:ext cx="951120" cy="118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ssmjLyFdUmEmS84xl23jGMLWy13MLK3wSuZjaBOrcFG_s85hPH9J9Afw"/>
          <p:cNvPicPr/>
          <p:nvPr/>
        </p:nvPicPr>
        <p:blipFill>
          <a:blip r:embed="rId3"/>
          <a:stretch/>
        </p:blipFill>
        <p:spPr>
          <a:xfrm>
            <a:off x="896760" y="3352680"/>
            <a:ext cx="1181160" cy="9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present"/>
          <p:cNvPicPr/>
          <p:nvPr/>
        </p:nvPicPr>
        <p:blipFill>
          <a:blip r:embed="rId4"/>
          <a:stretch/>
        </p:blipFill>
        <p:spPr>
          <a:xfrm>
            <a:off x="896760" y="4495680"/>
            <a:ext cx="1646280" cy="103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gone%202"/>
          <p:cNvPicPr/>
          <p:nvPr/>
        </p:nvPicPr>
        <p:blipFill>
          <a:blip r:embed="rId5"/>
          <a:stretch/>
        </p:blipFill>
        <p:spPr>
          <a:xfrm>
            <a:off x="825480" y="5529240"/>
            <a:ext cx="167148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0:01:33Z</dcterms:created>
  <dc:creator>Mac</dc:creator>
  <dc:description/>
  <dc:language>en-US</dc:language>
  <cp:lastModifiedBy>Mac</cp:lastModifiedBy>
  <dcterms:modified xsi:type="dcterms:W3CDTF">2011-10-11T00:04:50Z</dcterms:modified>
  <cp:revision>1</cp:revision>
  <dc:subject/>
  <dc:title>Vocales (Vowels) in Spanish are always pronounced the same.  They never change.  Learn the sounds and always pronounce them the same way! </dc:title>
</cp:coreProperties>
</file>